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B53B-508B-4B8C-9E62-11B4872A53B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5685-B0E1-48DE-8086-03580853A0F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159-0ACA-45C3-99E4-C24EA0842AD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1B3-D882-4897-9367-91504414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1AC-FB84-4A26-8F76-F74D3C76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129-14F0-4681-A375-C2F02CB2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B5E-9F91-4A5B-862C-73836380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185-0F84-44AD-B5F7-576FA88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F68-61DE-435E-BAE5-FECBB334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CB1-47AC-43FD-80F2-D814B03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789-D14B-42F2-86E5-63811799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E66-D511-4A2D-A6FB-4DF1E5B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66B-0A75-4416-86EA-9757FCD3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680-8E05-448A-86E5-DD266B5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ABD-D31E-45DA-A61D-650D57E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07A-A2F2-4B30-849F-F03576D1448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ftc.cii.fc.ul.pt/PRISMA/capitulos/capitulo3/modulo6/topico1.ph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cftc.cii.fc.ul.pt/PRISMA/capitulos/capitulo4/modulo4/" TargetMode="External"/><Relationship Id="rId2" Type="http://schemas.openxmlformats.org/officeDocument/2006/relationships/hyperlink" Target="http://cftc.cii.fc.ul.pt/PRISMA/capitulos/capitulo2/modulo4/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ftc.cii.fc.ul.pt/PRISMA/glossario.php#hidrofilica" TargetMode="External"/><Relationship Id="rId2" Type="http://schemas.openxmlformats.org/officeDocument/2006/relationships/hyperlink" Target="http://cftc.cii.fc.ul.pt/PRISMA/glossario.php#hidrofobica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ítulo 1"/>
          <p:cNvGrpSpPr/>
          <p:nvPr/>
        </p:nvGrpSpPr>
        <p:grpSpPr>
          <a:xfrm>
            <a:off x="407880" y="1871640"/>
            <a:ext cx="8334360" cy="2030400"/>
            <a:chOff x="407880" y="1871640"/>
            <a:chExt cx="8334360" cy="2030400"/>
          </a:xfrm>
        </p:grpSpPr>
        <p:pic>
          <p:nvPicPr>
            <p:cNvPr id="49" name="Título 1" descr=""/>
            <p:cNvPicPr/>
            <p:nvPr/>
          </p:nvPicPr>
          <p:blipFill>
            <a:blip r:embed="rId1"/>
            <a:stretch/>
          </p:blipFill>
          <p:spPr>
            <a:xfrm>
              <a:off x="407880" y="1871640"/>
              <a:ext cx="83343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Dispersõ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ipos de Col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pecto de solução = 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pecto gelatinoso = 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029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e Com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ros e pedras precios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leias, gelatinas e queij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u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ra polmes, carv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e Com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 - So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as, detergentes com águ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ul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nese, manteig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uma liqu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uma de barbear, clara em neve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2193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pers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e Co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ssol sól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eira, fuma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s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qui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bli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Aerossóis líquidos e sólido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557360"/>
            <a:ext cx="433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Os aerossóis líquidos 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neblin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nuven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spray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são bastante comuns, assim como os aerossóis sólidos 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poeir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fumaç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apesar de por vezes só nos apercebemos da presença deles devido ao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efeito de Tyndal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Efeito de Tyndall no interior da catedral de Saint Germain (Paris)."/>
          <p:cNvPicPr/>
          <p:nvPr/>
        </p:nvPicPr>
        <p:blipFill>
          <a:blip r:embed="rId2"/>
          <a:stretch/>
        </p:blipFill>
        <p:spPr>
          <a:xfrm>
            <a:off x="4859280" y="1844640"/>
            <a:ext cx="3975120" cy="309708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5"/>
          <p:cNvSpPr/>
          <p:nvPr/>
        </p:nvSpPr>
        <p:spPr>
          <a:xfrm>
            <a:off x="5076720" y="5157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atedral de Saint Germain (Pari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3640" y="189000"/>
            <a:ext cx="86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0000"/>
                </a:solidFill>
                <a:latin typeface="Calibri"/>
              </a:rPr>
              <a:t>Menos conhecidos, são os </a:t>
            </a:r>
            <a:r>
              <a:rPr b="1" lang="pt-BR" sz="2700" spc="-1" strike="noStrike">
                <a:solidFill>
                  <a:srgbClr val="17375e"/>
                </a:solidFill>
                <a:latin typeface="Calibri"/>
              </a:rPr>
              <a:t>aerogéis</a:t>
            </a:r>
            <a:r>
              <a:rPr b="1" lang="pt-BR" sz="2700" spc="-1" strike="noStrike">
                <a:solidFill>
                  <a:srgbClr val="ff0000"/>
                </a:solidFill>
                <a:latin typeface="Calibri"/>
              </a:rPr>
              <a:t>, onde a fase sólida dispersa no ar é também contínua. Os aerogéis são literalmente feitos de quase nada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Aerogel"/>
          <p:cNvPicPr/>
          <p:nvPr/>
        </p:nvPicPr>
        <p:blipFill>
          <a:blip r:embed="rId1"/>
          <a:stretch/>
        </p:blipFill>
        <p:spPr>
          <a:xfrm>
            <a:off x="1022400" y="2205000"/>
            <a:ext cx="2901960" cy="352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Microfotografia de um aerogel."/>
          <p:cNvPicPr/>
          <p:nvPr/>
        </p:nvPicPr>
        <p:blipFill>
          <a:blip r:embed="rId2"/>
          <a:stretch/>
        </p:blipFill>
        <p:spPr>
          <a:xfrm>
            <a:off x="4067280" y="2205000"/>
            <a:ext cx="4711680" cy="3564000"/>
          </a:xfrm>
          <a:prstGeom prst="rect">
            <a:avLst/>
          </a:prstGeom>
          <a:ln w="0">
            <a:noFill/>
          </a:ln>
        </p:spPr>
      </p:pic>
      <p:grpSp>
        <p:nvGrpSpPr>
          <p:cNvPr id="91" name="Retângulo 5"/>
          <p:cNvGrpSpPr/>
          <p:nvPr/>
        </p:nvGrpSpPr>
        <p:grpSpPr>
          <a:xfrm>
            <a:off x="927000" y="5962680"/>
            <a:ext cx="11520720" cy="639720"/>
            <a:chOff x="927000" y="5962680"/>
            <a:chExt cx="11520720" cy="639720"/>
          </a:xfrm>
        </p:grpSpPr>
        <p:pic>
          <p:nvPicPr>
            <p:cNvPr id="92" name="Retângulo 5" descr=""/>
            <p:cNvPicPr/>
            <p:nvPr/>
          </p:nvPicPr>
          <p:blipFill>
            <a:blip r:embed="rId3"/>
            <a:stretch/>
          </p:blipFill>
          <p:spPr>
            <a:xfrm>
              <a:off x="927000" y="5962680"/>
              <a:ext cx="11520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49800" y="6021360"/>
              <a:ext cx="59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Aerogel composto de 96% de ar e 4% de sí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Smog Fotoquímic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24000" y="1844640"/>
            <a:ext cx="34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m dos grandes problemas que atingem as grandes cida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9840" y="-441360"/>
            <a:ext cx="15238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69840" y="-441360"/>
            <a:ext cx="15238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9840" y="-441360"/>
            <a:ext cx="15238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m 6" descr="untitled.bmp"/>
          <p:cNvPicPr/>
          <p:nvPr/>
        </p:nvPicPr>
        <p:blipFill>
          <a:blip r:embed="rId1"/>
          <a:stretch/>
        </p:blipFill>
        <p:spPr>
          <a:xfrm>
            <a:off x="324000" y="1413000"/>
            <a:ext cx="52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 que o Smog Fotoquimi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Espaço Reservado para Conteúdo 3" descr="10-5Fot.jpg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305320"/>
          </a:xfrm>
          <a:prstGeom prst="rect">
            <a:avLst/>
          </a:prstGeom>
          <a:ln w="0">
            <a:noFill/>
          </a:ln>
        </p:spPr>
      </p:pic>
      <p:sp>
        <p:nvSpPr>
          <p:cNvPr id="102" name="Botão de ação: Filme 4"/>
          <p:cNvSpPr/>
          <p:nvPr/>
        </p:nvSpPr>
        <p:spPr>
          <a:xfrm>
            <a:off x="7451640" y="6093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7301"/>
                </a:moveTo>
                <a:lnTo>
                  <a:pt x="13221" y="7301"/>
                </a:lnTo>
                <a:lnTo>
                  <a:pt x="13604" y="7667"/>
                </a:lnTo>
                <a:lnTo>
                  <a:pt x="22813" y="7667"/>
                </a:lnTo>
                <a:lnTo>
                  <a:pt x="23370" y="8224"/>
                </a:lnTo>
                <a:lnTo>
                  <a:pt x="23370" y="8772"/>
                </a:lnTo>
                <a:lnTo>
                  <a:pt x="25215" y="8772"/>
                </a:lnTo>
                <a:lnTo>
                  <a:pt x="25581" y="8224"/>
                </a:lnTo>
                <a:lnTo>
                  <a:pt x="26320" y="8224"/>
                </a:lnTo>
                <a:lnTo>
                  <a:pt x="26320" y="13376"/>
                </a:lnTo>
                <a:lnTo>
                  <a:pt x="25581" y="13376"/>
                </a:lnTo>
                <a:lnTo>
                  <a:pt x="25215" y="12828"/>
                </a:lnTo>
                <a:lnTo>
                  <a:pt x="23370" y="12828"/>
                </a:lnTo>
                <a:lnTo>
                  <a:pt x="23370" y="14107"/>
                </a:lnTo>
                <a:lnTo>
                  <a:pt x="13787" y="14107"/>
                </a:lnTo>
                <a:lnTo>
                  <a:pt x="13787" y="9877"/>
                </a:lnTo>
                <a:lnTo>
                  <a:pt x="13604" y="9877"/>
                </a:lnTo>
                <a:lnTo>
                  <a:pt x="13221" y="10243"/>
                </a:lnTo>
                <a:lnTo>
                  <a:pt x="12308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As espumas líquidas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chantilly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uma da cervej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uma de barbear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e espumas sólidas (exemplos: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pipoc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farof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uma de poliuretano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também conhecida por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sponj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 são exemplos banais de coló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Chantilly"/>
          <p:cNvPicPr/>
          <p:nvPr/>
        </p:nvPicPr>
        <p:blipFill>
          <a:blip r:embed="rId1"/>
          <a:stretch/>
        </p:blipFill>
        <p:spPr>
          <a:xfrm>
            <a:off x="395280" y="2421000"/>
            <a:ext cx="2548080" cy="403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Estrutura microscópica do chantilly."/>
          <p:cNvPicPr/>
          <p:nvPr/>
        </p:nvPicPr>
        <p:blipFill>
          <a:blip r:embed="rId2"/>
          <a:stretch/>
        </p:blipFill>
        <p:spPr>
          <a:xfrm>
            <a:off x="3348000" y="2349360"/>
            <a:ext cx="5276880" cy="3383280"/>
          </a:xfrm>
          <a:prstGeom prst="rect">
            <a:avLst/>
          </a:prstGeom>
          <a:ln w="0">
            <a:noFill/>
          </a:ln>
        </p:spPr>
      </p:pic>
      <p:grpSp>
        <p:nvGrpSpPr>
          <p:cNvPr id="106" name="Retângulo 5"/>
          <p:cNvGrpSpPr/>
          <p:nvPr/>
        </p:nvGrpSpPr>
        <p:grpSpPr>
          <a:xfrm>
            <a:off x="3736800" y="6035760"/>
            <a:ext cx="7332840" cy="639720"/>
            <a:chOff x="3736800" y="6035760"/>
            <a:chExt cx="7332840" cy="639720"/>
          </a:xfrm>
        </p:grpSpPr>
        <p:pic>
          <p:nvPicPr>
            <p:cNvPr id="107" name="Retângulo 5" descr=""/>
            <p:cNvPicPr/>
            <p:nvPr/>
          </p:nvPicPr>
          <p:blipFill>
            <a:blip r:embed="rId3"/>
            <a:stretch/>
          </p:blipFill>
          <p:spPr>
            <a:xfrm>
              <a:off x="3736800" y="6035760"/>
              <a:ext cx="73328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860280" y="6093000"/>
              <a:ext cx="43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Calibri"/>
                </a:rPr>
                <a:t>Chantilly e a sua estrutura microscóp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Emulsões (líquidas) e emulsões sólidas </a:t>
            </a:r>
            <a:br>
              <a:rPr sz="2400"/>
            </a:b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O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leite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maionese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água, fase dispersa: gordura) assim como 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manteig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e 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margarin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óleo, fase dispersa: água) são exemplos de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emulsões (líquid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leite"/>
          <p:cNvPicPr/>
          <p:nvPr/>
        </p:nvPicPr>
        <p:blipFill>
          <a:blip r:embed="rId1"/>
          <a:stretch/>
        </p:blipFill>
        <p:spPr>
          <a:xfrm>
            <a:off x="250920" y="2276640"/>
            <a:ext cx="2481120" cy="34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Estrutura microscópica do leite."/>
          <p:cNvPicPr/>
          <p:nvPr/>
        </p:nvPicPr>
        <p:blipFill>
          <a:blip r:embed="rId2"/>
          <a:stretch/>
        </p:blipFill>
        <p:spPr>
          <a:xfrm>
            <a:off x="2987640" y="2276640"/>
            <a:ext cx="5808600" cy="3490920"/>
          </a:xfrm>
          <a:prstGeom prst="rect">
            <a:avLst/>
          </a:prstGeom>
          <a:ln w="0">
            <a:noFill/>
          </a:ln>
        </p:spPr>
      </p:pic>
      <p:grpSp>
        <p:nvGrpSpPr>
          <p:cNvPr id="112" name="Retângulo 5"/>
          <p:cNvGrpSpPr/>
          <p:nvPr/>
        </p:nvGrpSpPr>
        <p:grpSpPr>
          <a:xfrm>
            <a:off x="60480" y="5846760"/>
            <a:ext cx="9010440" cy="1724040"/>
            <a:chOff x="60480" y="5846760"/>
            <a:chExt cx="9010440" cy="1724040"/>
          </a:xfrm>
        </p:grpSpPr>
        <p:pic>
          <p:nvPicPr>
            <p:cNvPr id="113" name="Retângulo 5" descr=""/>
            <p:cNvPicPr/>
            <p:nvPr/>
          </p:nvPicPr>
          <p:blipFill>
            <a:blip r:embed="rId3"/>
            <a:stretch/>
          </p:blipFill>
          <p:spPr>
            <a:xfrm>
              <a:off x="60480" y="5846760"/>
              <a:ext cx="901044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79280" y="5904000"/>
              <a:ext cx="87854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Estrutura</a:t>
              </a:r>
              <a:r>
                <a:rPr b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 microscópica do leite, onde são visíveis os glóbulos de gordura (cinzento) e micelas de caseína (preto), as quais são responsáveis pela estabilidade do le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Verdana"/>
                <a:ea typeface="Verdana"/>
              </a:rPr>
              <a:t>As misturas de substâncias não nascem todas iguais. Por exemplo, quando dissolvemos açúcar no chá, o açúcar já não se separa espontaneamente do chá, nem mesmo usando filtros extremamente finos ou centrifugadoras extremamente potentes. </a:t>
            </a:r>
            <a:r>
              <a:rPr b="1" lang="pt-BR" sz="3600" spc="-1" strike="noStrike">
                <a:solidFill>
                  <a:srgbClr val="002060"/>
                </a:solidFill>
                <a:latin typeface="Verdana"/>
                <a:ea typeface="Verdana"/>
              </a:rPr>
              <a:t>As estas misturas chamamos soluções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O </a:t>
            </a:r>
            <a:r>
              <a:rPr b="1" i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queijo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proteínas, fase dispersa: gordura) assim como o </a:t>
            </a:r>
            <a:r>
              <a:rPr b="1" i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gelado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água, fase dispersa: gordura) são exemplos de </a:t>
            </a:r>
            <a:r>
              <a:rPr b="1" lang="pt-BR" sz="2800" spc="-1" strike="noStrike">
                <a:solidFill>
                  <a:srgbClr val="17375e"/>
                </a:solidFill>
                <a:latin typeface="Verdana"/>
                <a:ea typeface="Verdana"/>
              </a:rPr>
              <a:t>emulsões sólidas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Queijo cheddar."/>
          <p:cNvPicPr/>
          <p:nvPr/>
        </p:nvPicPr>
        <p:blipFill>
          <a:blip r:embed="rId1"/>
          <a:stretch/>
        </p:blipFill>
        <p:spPr>
          <a:xfrm>
            <a:off x="179280" y="2421000"/>
            <a:ext cx="412128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Microfotografia do queijo cheddar."/>
          <p:cNvPicPr/>
          <p:nvPr/>
        </p:nvPicPr>
        <p:blipFill>
          <a:blip r:embed="rId2"/>
          <a:stretch/>
        </p:blipFill>
        <p:spPr>
          <a:xfrm>
            <a:off x="4427640" y="2205000"/>
            <a:ext cx="449568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18" name="Retângulo 4"/>
          <p:cNvGrpSpPr/>
          <p:nvPr/>
        </p:nvGrpSpPr>
        <p:grpSpPr>
          <a:xfrm>
            <a:off x="6480" y="5748480"/>
            <a:ext cx="9088200" cy="1695240"/>
            <a:chOff x="6480" y="5748480"/>
            <a:chExt cx="9088200" cy="1695240"/>
          </a:xfrm>
        </p:grpSpPr>
        <p:pic>
          <p:nvPicPr>
            <p:cNvPr id="119" name="Retângulo 4" descr=""/>
            <p:cNvPicPr/>
            <p:nvPr/>
          </p:nvPicPr>
          <p:blipFill>
            <a:blip r:embed="rId3"/>
            <a:stretch/>
          </p:blipFill>
          <p:spPr>
            <a:xfrm>
              <a:off x="6480" y="5748480"/>
              <a:ext cx="90882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8000" y="580536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Fatias de queijo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cheddar</a:t>
              </a:r>
              <a:r>
                <a:rPr b="1" lang="pt-BR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 e na respectiva microfotografia da direita (escala: 1 µm) podemos ver os glóbulos de gordura (amarelo) num meio contínuo de proteínas (azul)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A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gelatina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água, fase dispersa: proteínas) antes de arrefecer é um exemplo de um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so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líquido). Porém quando arrefece transforma-se num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ge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, onde a fase dispersa passa também a ser contínu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" descr="Transição sol-gel."/>
          <p:cNvPicPr/>
          <p:nvPr/>
        </p:nvPicPr>
        <p:blipFill>
          <a:blip r:embed="rId1"/>
          <a:stretch/>
        </p:blipFill>
        <p:spPr>
          <a:xfrm>
            <a:off x="1763640" y="234936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No estado gel as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proteín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da gelatina formam um agregado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fractal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auto-semelhan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gelatina"/>
          <p:cNvPicPr/>
          <p:nvPr/>
        </p:nvPicPr>
        <p:blipFill>
          <a:blip r:embed="rId3"/>
          <a:stretch/>
        </p:blipFill>
        <p:spPr>
          <a:xfrm>
            <a:off x="324000" y="1989000"/>
            <a:ext cx="3886200" cy="3427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icrofotografia de um gel de lisozina."/>
          <p:cNvPicPr/>
          <p:nvPr/>
        </p:nvPicPr>
        <p:blipFill>
          <a:blip r:embed="rId4"/>
          <a:stretch/>
        </p:blipFill>
        <p:spPr>
          <a:xfrm>
            <a:off x="4572000" y="1989000"/>
            <a:ext cx="40068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26" name="Retângulo 4"/>
          <p:cNvGrpSpPr/>
          <p:nvPr/>
        </p:nvGrpSpPr>
        <p:grpSpPr>
          <a:xfrm>
            <a:off x="353880" y="5815080"/>
            <a:ext cx="8448840" cy="1244520"/>
            <a:chOff x="353880" y="5815080"/>
            <a:chExt cx="8448840" cy="1244520"/>
          </a:xfrm>
        </p:grpSpPr>
        <p:pic>
          <p:nvPicPr>
            <p:cNvPr id="127" name="Retângulo 4" descr=""/>
            <p:cNvPicPr/>
            <p:nvPr/>
          </p:nvPicPr>
          <p:blipFill>
            <a:blip r:embed="rId5"/>
            <a:stretch/>
          </p:blipFill>
          <p:spPr>
            <a:xfrm>
              <a:off x="353880" y="5815080"/>
              <a:ext cx="84488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68360" y="5877000"/>
              <a:ext cx="828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Na microfotografia da direita (escala: 1 µm) podemos ver um gel de lisozina (uma proteín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As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pérolas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proteínas, fase dispersa: placas de aragonite) assim como o </a:t>
            </a:r>
            <a:r>
              <a:rPr b="1" i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aço ao carbono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Verdana"/>
              </a:rPr>
              <a:t> (meio contínuo: ferro, fase dispersa: carbono) são exemplos de 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sóis sóli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4358160" y="-297360"/>
            <a:ext cx="427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5400" tIns="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pérola"/>
          <p:cNvPicPr/>
          <p:nvPr/>
        </p:nvPicPr>
        <p:blipFill>
          <a:blip r:embed="rId1"/>
          <a:stretch/>
        </p:blipFill>
        <p:spPr>
          <a:xfrm>
            <a:off x="108000" y="1916280"/>
            <a:ext cx="3959280" cy="3960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4389840" y="-297360"/>
            <a:ext cx="364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0" tIns="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icrofotografia de uma pérola."/>
          <p:cNvPicPr/>
          <p:nvPr/>
        </p:nvPicPr>
        <p:blipFill>
          <a:blip r:embed="rId2"/>
          <a:stretch/>
        </p:blipFill>
        <p:spPr>
          <a:xfrm>
            <a:off x="4705200" y="1989000"/>
            <a:ext cx="4151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34" name="Retângulo 6"/>
          <p:cNvGrpSpPr/>
          <p:nvPr/>
        </p:nvGrpSpPr>
        <p:grpSpPr>
          <a:xfrm>
            <a:off x="208080" y="5962680"/>
            <a:ext cx="8740800" cy="1554120"/>
            <a:chOff x="208080" y="5962680"/>
            <a:chExt cx="8740800" cy="1554120"/>
          </a:xfrm>
        </p:grpSpPr>
        <p:pic>
          <p:nvPicPr>
            <p:cNvPr id="135" name="Retângulo 6" descr=""/>
            <p:cNvPicPr/>
            <p:nvPr/>
          </p:nvPicPr>
          <p:blipFill>
            <a:blip r:embed="rId3"/>
            <a:stretch/>
          </p:blipFill>
          <p:spPr>
            <a:xfrm>
              <a:off x="208080" y="5962680"/>
              <a:ext cx="874080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24000" y="6021360"/>
              <a:ext cx="856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Estrutura de uma pérola, onde as placas de aragonite (mineral) têm cerca de 10 µm de diâmetro e 0.5 µm de espess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Título 1"/>
          <p:cNvGrpSpPr/>
          <p:nvPr/>
        </p:nvGrpSpPr>
        <p:grpSpPr>
          <a:xfrm>
            <a:off x="401760" y="55440"/>
            <a:ext cx="8340480" cy="1785960"/>
            <a:chOff x="401760" y="55440"/>
            <a:chExt cx="8340480" cy="1785960"/>
          </a:xfrm>
        </p:grpSpPr>
        <p:pic>
          <p:nvPicPr>
            <p:cNvPr id="138" name="Título 1" descr=""/>
            <p:cNvPicPr/>
            <p:nvPr/>
          </p:nvPicPr>
          <p:blipFill>
            <a:blip r:embed="rId1"/>
            <a:stretch/>
          </p:blipFill>
          <p:spPr>
            <a:xfrm>
              <a:off x="401760" y="55440"/>
              <a:ext cx="83404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Calibri"/>
                </a:rPr>
                <a:t>Estabilidade dos Colóid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tângulo 2"/>
          <p:cNvSpPr/>
          <p:nvPr/>
        </p:nvSpPr>
        <p:spPr>
          <a:xfrm>
            <a:off x="395280" y="21366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A estabilidade dos colóides depende em grande medida das propriedades da fase dispersa, nomeadamente se esta é liofílica ou liofób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O termo </a:t>
            </a:r>
            <a:r>
              <a:rPr b="1" i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lio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 refere-se ao meio dispersante. Os termos mais familiares </a:t>
            </a:r>
            <a:r>
              <a:rPr b="1" i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fóbico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 (do grego, "ter medo") e </a:t>
            </a:r>
            <a:r>
              <a:rPr b="1" i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fílico</a:t>
            </a:r>
            <a:r>
              <a:rPr b="1" lang="pt-BR" sz="2400" spc="-1" strike="noStrike">
                <a:solidFill>
                  <a:srgbClr val="17375e"/>
                </a:solidFill>
                <a:latin typeface="Verdana"/>
                <a:ea typeface="Verdana"/>
              </a:rPr>
              <a:t> (do grego, "gostar") servem para indicar se as partículas dispersas têm uma afinidade fraca (liofóbica) ou forte (liofílica) com o meio dispers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Um exemplo comum de sistema liofílico é o sabão disperso na água. O óleo suspenso na água, pelo uso de uma técnica de dispersão por ultra-sons, por exemplo, representa um colóide liofóbico típico. A rigidez inerente dos colóides não fluidos, tais como as espumas sólidas ou os sóis sólidos é, naturalmente, o fator principal que determina a sua estabil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Exemplos comuns deste tipo de moléculas são o sabão e os detergentes, os quais têm uma </a:t>
            </a:r>
            <a:r>
              <a:rPr b="1" i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cabeç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idrofílic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 e uma </a:t>
            </a:r>
            <a:r>
              <a:rPr b="1" i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caud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hidrofóbica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. O mecanismo da estabilização baseia-se na formação de micelas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Disposição das moléculas de um surfactante numa lâmina de água em contacto com o ar."/>
          <p:cNvPicPr/>
          <p:nvPr/>
        </p:nvPicPr>
        <p:blipFill>
          <a:blip r:embed="rId3"/>
          <a:stretch/>
        </p:blipFill>
        <p:spPr>
          <a:xfrm>
            <a:off x="1547640" y="3141720"/>
            <a:ext cx="5832720" cy="3411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Título 1"/>
          <p:cNvGrpSpPr/>
          <p:nvPr/>
        </p:nvGrpSpPr>
        <p:grpSpPr>
          <a:xfrm>
            <a:off x="401760" y="-19080"/>
            <a:ext cx="8540640" cy="1951200"/>
            <a:chOff x="401760" y="-19080"/>
            <a:chExt cx="8540640" cy="1951200"/>
          </a:xfrm>
        </p:grpSpPr>
        <p:pic>
          <p:nvPicPr>
            <p:cNvPr id="145" name="Título 1" descr=""/>
            <p:cNvPicPr/>
            <p:nvPr/>
          </p:nvPicPr>
          <p:blipFill>
            <a:blip r:embed="rId1"/>
            <a:stretch/>
          </p:blipFill>
          <p:spPr>
            <a:xfrm>
              <a:off x="401760" y="-19080"/>
              <a:ext cx="85406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Calibri"/>
                </a:rPr>
                <a:t>Algumas aplicações tecnológica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39680" y="1878120"/>
            <a:ext cx="8607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Por outro lado, o sumo de laranja recém espremido é também uma mistura aparentemente homogênea. Porém, se esperarmos um pouco, a polpa da laranja deposita-se no fundo do copo sob a ação da gravidade. </a:t>
            </a:r>
            <a:r>
              <a:rPr b="1" lang="pt-BR" sz="2800" spc="-1" strike="noStrike">
                <a:solidFill>
                  <a:srgbClr val="17375e"/>
                </a:solidFill>
                <a:latin typeface="Verdana"/>
                <a:ea typeface="Verdana"/>
              </a:rPr>
              <a:t>A estas misturas chamamos suspensões.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Sumo de laranja recém-espremido."/>
          <p:cNvPicPr/>
          <p:nvPr/>
        </p:nvPicPr>
        <p:blipFill>
          <a:blip r:embed="rId1"/>
          <a:stretch/>
        </p:blipFill>
        <p:spPr>
          <a:xfrm>
            <a:off x="5435640" y="476280"/>
            <a:ext cx="355104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Polpa do sumo de laranja depositada no fundo devido à gravidade."/>
          <p:cNvPicPr/>
          <p:nvPr/>
        </p:nvPicPr>
        <p:blipFill>
          <a:blip r:embed="rId2"/>
          <a:stretch/>
        </p:blipFill>
        <p:spPr>
          <a:xfrm>
            <a:off x="5435640" y="3573360"/>
            <a:ext cx="35622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Existe ainda um terceiro tipo de misturas, onde as substâncias não se separam sob a ação da gravidade, mas onde é possível separá-las usando filtros extremamente finos ou centrifugadoras extremamente poten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314136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O leite é uma dessas misturas. A este tipo de misturas chamamos colóides. A diferença está no tamanho das partículas suspensas. </a:t>
            </a:r>
            <a:r>
              <a:rPr b="1" lang="pt-BR" sz="3200" spc="-1" strike="noStrike">
                <a:solidFill>
                  <a:srgbClr val="17375e"/>
                </a:solidFill>
                <a:latin typeface="Verdana"/>
                <a:ea typeface="Verdana"/>
              </a:rPr>
              <a:t>Esse tamanho das partículas é usado como critério na definição dos colóide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leite"/>
          <p:cNvPicPr/>
          <p:nvPr/>
        </p:nvPicPr>
        <p:blipFill>
          <a:blip r:embed="rId1"/>
          <a:stretch/>
        </p:blipFill>
        <p:spPr>
          <a:xfrm>
            <a:off x="5364000" y="1268280"/>
            <a:ext cx="3598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Nos colóides as partículas dispersas estão em movimento constante e errático devido às moléculas do fluido estarem constantemente colidindo umas contra as outras.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Verdana"/>
                <a:ea typeface="Verdana"/>
              </a:rPr>
              <a:t> É por esta razão que as partículas dispersas não se depositam no fundo do recipiente sob a ação da grav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Os colóides dispersam fortemente a luz, pois as partículas dispersas têm tamanhos semelhantes ao comprimento de onda da luz visível. Este fenômeno é chamado </a:t>
            </a:r>
            <a:r>
              <a:rPr b="1" lang="pt-BR" sz="2800" spc="-1" strike="noStrike">
                <a:solidFill>
                  <a:srgbClr val="17375e"/>
                </a:solidFill>
                <a:latin typeface="Verdana"/>
                <a:ea typeface="Verdana"/>
              </a:rPr>
              <a:t>efeito de Tyndall</a:t>
            </a:r>
            <a:r>
              <a:rPr b="1" lang="pt-BR" sz="2800" spc="-1" strike="noStrike">
                <a:solidFill>
                  <a:srgbClr val="ff0000"/>
                </a:solidFill>
                <a:latin typeface="Verdana"/>
                <a:ea typeface="Verdana"/>
              </a:rPr>
              <a:t> e permite distinguir as soluções verdadeiras dos colóides, pois as soluções verdadeiras são transparentes, ou seja não dispersam a l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Efeito de Tyndall num líquido."/>
          <p:cNvPicPr/>
          <p:nvPr/>
        </p:nvPicPr>
        <p:blipFill>
          <a:blip r:embed="rId1"/>
          <a:stretch/>
        </p:blipFill>
        <p:spPr>
          <a:xfrm>
            <a:off x="179280" y="3645000"/>
            <a:ext cx="456588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Efeito de Tyndall num gás."/>
          <p:cNvPicPr/>
          <p:nvPr/>
        </p:nvPicPr>
        <p:blipFill>
          <a:blip r:embed="rId2"/>
          <a:stretch/>
        </p:blipFill>
        <p:spPr>
          <a:xfrm>
            <a:off x="5043600" y="3645000"/>
            <a:ext cx="3925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lo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ttp://t3.gstatic.com/images?q=tbn:ANd9GcQC0TpUlsdD0LnbYR98JrxQKrM27M0zQHMYFIN606gj4jMM21iqcQ"/>
          <p:cNvPicPr/>
          <p:nvPr/>
        </p:nvPicPr>
        <p:blipFill>
          <a:blip r:embed="rId1"/>
          <a:stretch/>
        </p:blipFill>
        <p:spPr>
          <a:xfrm>
            <a:off x="6012000" y="1606680"/>
            <a:ext cx="2808000" cy="21128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77760" y="-708120"/>
            <a:ext cx="15238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77760" y="-884160"/>
            <a:ext cx="2476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ttp://t1.gstatic.com/images?q=tbn:ANd9GcS3WM5xsw4tuH0YlDESCN70gbg5d52f1e4wKBddd2uqphJXXWmu"/>
          <p:cNvPicPr/>
          <p:nvPr/>
        </p:nvPicPr>
        <p:blipFill>
          <a:blip r:embed="rId2"/>
          <a:stretch/>
        </p:blipFill>
        <p:spPr>
          <a:xfrm>
            <a:off x="250920" y="1606680"/>
            <a:ext cx="3686040" cy="1871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3"/>
          <p:cNvSpPr/>
          <p:nvPr/>
        </p:nvSpPr>
        <p:spPr>
          <a:xfrm>
            <a:off x="7776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http://t0.gstatic.com/images?q=tbn:ANd9GcSDrzNUjZgH7AUI8wLrYkBDWVACPARIPTciLq_ZWSWXPOyE0Ac5"/>
          <p:cNvPicPr/>
          <p:nvPr/>
        </p:nvPicPr>
        <p:blipFill>
          <a:blip r:embed="rId3"/>
          <a:stretch/>
        </p:blipFill>
        <p:spPr>
          <a:xfrm>
            <a:off x="398520" y="3573360"/>
            <a:ext cx="1695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7"/>
          <p:cNvSpPr/>
          <p:nvPr/>
        </p:nvSpPr>
        <p:spPr>
          <a:xfrm>
            <a:off x="77760" y="-677880"/>
            <a:ext cx="1905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http://t3.gstatic.com/images?q=tbn:ANd9GcRs1_UmL6_q-0Cu3Us7QKv_9ty_f-qhiKpvUjMFhV85EbjUD_ynVQ"/>
          <p:cNvPicPr/>
          <p:nvPr/>
        </p:nvPicPr>
        <p:blipFill>
          <a:blip r:embed="rId4"/>
          <a:stretch/>
        </p:blipFill>
        <p:spPr>
          <a:xfrm>
            <a:off x="2627280" y="3922560"/>
            <a:ext cx="3175200" cy="23767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1"/>
          <p:cNvSpPr/>
          <p:nvPr/>
        </p:nvSpPr>
        <p:spPr>
          <a:xfrm>
            <a:off x="77760" y="-685800"/>
            <a:ext cx="14288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3" descr="http://t3.gstatic.com/images?q=tbn:ANd9GcRyvEwWne3ATg7nZNhG0kk6yEKH-nYwGxcRtkNQuqgW8I-bieDZ_A"/>
          <p:cNvPicPr/>
          <p:nvPr/>
        </p:nvPicPr>
        <p:blipFill>
          <a:blip r:embed="rId5"/>
          <a:stretch/>
        </p:blipFill>
        <p:spPr>
          <a:xfrm>
            <a:off x="6270480" y="3776760"/>
            <a:ext cx="2549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tômicos ( átomos estão dispers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oleculares(moléculas dispers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onicos (Ions dispers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53:25Z</dcterms:created>
  <dc:creator>Eneas</dc:creator>
  <dc:description/>
  <dc:language>en-US</dc:language>
  <cp:lastModifiedBy>Tarantella</cp:lastModifiedBy>
  <dcterms:modified xsi:type="dcterms:W3CDTF">2011-03-18T10:55:42Z</dcterms:modified>
  <cp:revision>22</cp:revision>
  <dc:subject/>
  <dc:title>Dispersões</dc:title>
</cp:coreProperties>
</file>